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18E-435A-4FCA-AE29-939F83B1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77F-B723-440E-9C37-EADE2C4E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AC2-384C-415A-8F1F-5ABE9C4A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A3E-CFB2-4F2B-A4A3-8375EA05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471-94F1-4BE9-95BD-4840CA87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DC9-D1BD-44B2-BFE8-4AD02B3D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9F6-941D-4B78-B721-718BD6E9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28F-9358-43D3-973B-74733AA4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126-CA29-4ED1-AAB6-2F37A2FF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DA3-EC6D-4A22-AC0E-A18AFE16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CBB-CA67-4080-844C-EABED118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8E4-521D-456B-A8C9-2019B466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604A-DD0E-4E2E-A10F-B7648425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ergy" TargetMode="External"/><Relationship Id="rId2" Type="http://schemas.openxmlformats.org/officeDocument/2006/relationships/hyperlink" Target="http://en.wikipedia.org/wiki/Solid_angle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balance: black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3040"/>
            <a:ext cx="62485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ck's law of black-body 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   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area/ unit/ time/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tted between ν &amp; ν+d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temp; h=Planck's const; c=speed of light; k=Boltzmann's con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tal emitted radiation: sigma*T^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I(\nu) = \frac{2 h\nu^{3}}{c^2}\frac{1}{e^{\frac{h\nu}{kT}}-1}"/>
          <p:cNvPicPr/>
          <p:nvPr/>
        </p:nvPicPr>
        <p:blipFill>
          <a:blip r:embed="rId3"/>
          <a:stretch/>
        </p:blipFill>
        <p:spPr>
          <a:xfrm>
            <a:off x="2133720" y="990720"/>
            <a:ext cx="196848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I(\nu)d\nu \,"/>
          <p:cNvPicPr/>
          <p:nvPr/>
        </p:nvPicPr>
        <p:blipFill>
          <a:blip r:embed="rId4"/>
          <a:stretch/>
        </p:blipFill>
        <p:spPr>
          <a:xfrm>
            <a:off x="380880" y="1828800"/>
            <a:ext cx="457200" cy="20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2819520" cy="260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3635280"/>
            <a:ext cx="4495680" cy="322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572000" y="3639960"/>
            <a:ext cx="45720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bedo, greenhouse, energy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5168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7:08:07Z</dcterms:created>
  <dc:creator>-</dc:creator>
  <dc:description/>
  <dc:language>en-US</dc:language>
  <cp:lastModifiedBy>-</cp:lastModifiedBy>
  <dcterms:modified xsi:type="dcterms:W3CDTF">2007-01-31T14:25:46Z</dcterms:modified>
  <cp:revision>9</cp:revision>
  <dc:subject/>
  <dc:title>Applied math 115 climate </dc:title>
</cp:coreProperties>
</file>